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E3A-A4E8-412D-99DD-6DE4D77E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C7A-960E-4889-A302-FDBCBC2E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80E-0643-47FD-87F2-F00A89C1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6C9-904A-4639-9467-0F24CEF0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256-D910-4848-9F8D-908B4CAC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7FE-8C04-491F-AEC8-4E898492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4F3-DB21-43E5-BE1D-7DF2FE71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3EF-E432-4866-9964-EB47D105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579-DF4B-4478-90AB-E02F3250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EFB-A8FC-4D04-B3A2-2659677F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835-C2B4-4E67-926A-360333DB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99F-A88C-4743-AC87-BC0426EA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2A54-35C1-44A7-8763-7F8069094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557360"/>
            <a:ext cx="82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35772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cc0099"/>
                </a:solidFill>
                <a:latin typeface="Arial"/>
              </a:rPr>
              <a:t>C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ause - </a:t>
            </a:r>
            <a:r>
              <a:rPr b="1" lang="en-NZ" sz="7200" spc="-1" strike="noStrike">
                <a:solidFill>
                  <a:srgbClr val="cc0099"/>
                </a:solidFill>
                <a:latin typeface="Arial"/>
              </a:rPr>
              <a:t>C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ntains a ver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19162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a complete sentenc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869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EG: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The fox </a:t>
            </a:r>
            <a:r>
              <a:rPr b="1" lang="en-NZ" sz="5400" spc="-1" strike="noStrike">
                <a:solidFill>
                  <a:srgbClr val="cc0099"/>
                </a:solidFill>
                <a:latin typeface="Arial"/>
              </a:rPr>
              <a:t>jumped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on the l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1:10:15Z</dcterms:modified>
  <cp:revision>34</cp:revision>
  <dc:subject/>
  <dc:title>Simile</dc:title>
</cp:coreProperties>
</file>